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75EE-30D2-4FEF-A43B-77F28D26A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1F66-1025-4418-9E6C-9580DC591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DF16-BF32-4F63-B68C-2E103FE7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41B3-D34B-4C1B-8060-BC8152387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4188-B216-4FE8-AFA3-1E9A1F0E3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C0EE-0FB8-4032-AC6C-A60101991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B3D2-4185-4A17-A4E5-3AB55E229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4225-35FA-47D9-A8D1-CD0C94FDD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EDC-03B1-4EC2-BA81-9DB3F24CE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6CFC-A59B-4113-A718-6CA0A8D8F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2B0C-8983-498A-B517-440F8C08F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3829-2039-4A94-92BC-3E870A509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12A-66AC-4F3A-B333-EDB3CD65B8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A657-11E1-4669-8722-4BFC3372A3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DDC-015A-4414-A157-D520759F11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 (or Mathematical Processes on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6B6C-7302-4562-889C-F5DA52D612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ABD-2A0B-4157-BF58-331C34B151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5E53-AE75-4A68-8C98-BA5356A68B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412D-CA1A-4516-818D-CD6BA4393A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19E-66B6-49D9-99A2-BAA2963438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B7D8-7362-46BB-B7B8-2919E08881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6AEA-F95E-440C-93D7-B0C89E1E0C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6D2-DFDF-487A-B80E-B2CABB8DA0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16B-5FCC-4159-A503-0D19B0235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C05-BF3F-430B-9B9F-E6EEF3E217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798-5D5A-4441-9FAD-0D3EE7A48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41C-DFE8-42BC-B4C6-A42E12FFB7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0727-1B88-4DD6-9BFB-23F2CE0785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AFB-EB2B-4B91-8A3B-32342FFBC4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DBB3-3472-409A-95C2-61C97DE32C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CC9D-C20D-49CE-8242-2A2AA8BA3C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4B3D-EB6E-4E2B-81CF-69EB91B9B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999-E7B8-402C-8D21-E33012A575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D18-CD1E-4BF3-949B-5382C249B4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C25-751C-4267-97DB-2C02F5035C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ABB-5E47-4341-9F43-3771687CB1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3588-0B16-4825-9461-479A7D3ACB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4581-DC36-414B-9F90-4EE3C50452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D4BA-F091-4931-BBEE-6562EEF30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30:28Z</dcterms:modified>
  <cp:revision>48</cp:revision>
  <dc:subject/>
  <dc:title>&lt;Title&gt;</dc:title>
</cp:coreProperties>
</file>